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6EB-BE67-483A-9388-9CD1AF6B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71F-7978-43F0-BBBB-E82464EA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130-9120-4B48-83C3-D4736DC2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9C7-53B8-4BE4-A773-87F0F419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908-4A79-4B5A-9ABC-9AF93D6B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0F51-309A-49A8-A2F6-F92AC31D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08CC-5752-4817-92E1-BAF217AD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E5F1-8396-4DD3-A6C3-77934BD8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1332-08F3-4015-A027-21CF7DF7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AD8E-BADB-4435-9237-40AF0038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97D-C062-45DA-BBED-92EC18BE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E770-21C1-44A6-94EC-206AF029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618F-938D-41B3-BCDE-B79CC071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2941-3A24-4FED-99FD-AF0937C7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1784-73E2-4B5A-9832-DBAC5740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EDBE-4AC0-4B32-9FCB-ACF32BE0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D462-AC61-4940-B43A-2AD42EDC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BC24-CEDC-4222-975E-AFEA3A92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8E78-7282-429C-9F87-ED6EA0E1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250-F09D-49DC-A9E9-5281E208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B58-5C17-4167-B456-B753C6FB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9566-D033-4453-9285-8F40D7D3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2D0-4AC8-4C3B-BAA6-8CB30961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F571-87A5-4688-A9A7-D6029659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BCDB-21C7-4D2A-A921-4CB570F4F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7CD3-24E6-4FFD-8D7D-35659837018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рмаковигиланц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Кохортне студије у фармаковигиланци: дизајн, применљивост и интеграција резулта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oho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раз "кохорта" потиче од латинске реч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hor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Римске легије биле су састављене од десет кохорти. Током борбе свака кохорта, односно војна јединица, која се састојала од одређеног броја ратника и командирских центуриона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огла се тачно локализовати и координира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ч „кохорта“ је усвојена у епидемиологији да би дефинисала скуп људи који су праћени током одређеног време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.H. Fros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епидемиолог из раних 1900-их, био је први који је у својој публикацији из 1935. године употребио реч „кохорт“ процењујући специфичну стопу смртности и туберкулоз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времена епидемиолошка дефиниција речи сада значи „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упа људи са дефинисаним карактеристикама који се прате да би се утврдила учесталост или смртност од неке специфичне болести, свих узрока смрти или неког другог исход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бро дизајнирана кохорт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 пружити поуздане резултат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пулација се идентификује према изложености или догађају од интереса, а следи на време док се не појави болест или исход од интере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што је изложеност идентификована пре исхода, кохортне студије имају временски оквир за процену узрочно-посљедичне повезаности и на тај начин имају потенцијал да пруже најјаче научне доказ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ебно корисне за испитивање ретких експозиција јер су субјекти изабрани према статусу изложе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ражитељ може истовремено да испита више исх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ци укључују потребу за великом величином узорка и потенцијално дугим трајањем праћења дизајна студије што истраживање чини скуп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хортне студије могу бити проспективне или ретроспектив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спективне кохортне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воде се  из садашњег времена у будућнос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зајниране су са одређеним методама прикупљања подата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ност - прилагођена за прикупљање одређених података о изложености и може бити потпуниј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ак -  дуг период праћења док се чекају појаве или боле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вај дизајн студије неефикасан за испитивање болести са дугим латенцијалним периодима и подложан је великом губитку праћења пацијена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ако су перспективне кохортне студије непроцењиве као што показује примјер познате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ramingham Heart Study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започетог 1948. и још увек тра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троспективне кохортне студије су боље назначене с обзиром на правовременост и јефтину природу дизајна студ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троспективне кохортне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Историјске кохортне студије», спроводе се у данашње време и гледају у прошлост да би испитале медицинске догађаје или исход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адашње време је изабрана група испитаника на основу статуса изложености, а подаци о исходу (статус болести, статус догађаја), који су мерени у прошлости, реконструишу се ради анализ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ак – ограничена је контрола коју истраживач има над прикупљањем подата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ојећи подаци могу бити непотпуни, нетачни или недоследно мерени између субјека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бог непосредне доступности података, овај је дизајн студије релативно јефтинији и краћи од проспективних кохортних студиј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ност - непосредан приступ подаци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ак - ограничена контрола прикупљања подата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лика је између кохортних студија и серије случајев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hort studies vs. cas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лика између ове две врсте студија је присуство контролне, или неекспониране, груп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разлику од епидемиолошких кохортних студија, серије случајева су дескриптивне студије које прате једну малу груп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лучаје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 суштини, они су продужеци извештаја о случајевим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ично су случајеви добијени из искустава аутора, обично укључују мали број пацијената, и што је још важније, недостаје контролна груп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сто постоји конфузија у именовању студија као „кохортних студија“ када се испитује само једна група испитани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пак, осим ако није присутна друга упоредна група која служи као контрола, ове студије су дефинисане као серија случаје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ећи корак у јачању опажања из серије случајева је одабир одговарајућих контролних група за спровођење кохорте или студије о контроли случај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збор субјеката из кохортних студиј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актеристика кохортне студије је дефинисање одабране групе субјеката према статусу изложености на почетку истраг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итична карактеристика одабира субјекта је да се и изложене и неекспониране групе изаберу из исте изворне популац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бјекти који нису изложени ризику за развој исхода потребно је да су  искључени из студ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ворна популација одређена је практичним разматрањима, као што је узорковањ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бјекти се могу ефикасно узорковати из болнице, бити чланови неке заједнице или из приватне праксе лека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уп ових субјеката ће бити прихватљив за ову студиј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тврђивање пристраности (губитак због праћења) -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Attrition Bi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пективне кохортне студије могу захтевати дуге периоде праћења, важно је да минимизирате губитак приликом праћењ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убитак због праћења је ситуација у којој истраживач губи контакт са субјектом, што резултира недостатком подата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о је превише субјеката изгубљено за праћење, смањује се интерна валидност студ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ште правило захтева да стопа губитка због праћења не прелази 20% узор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аке систематске разлике везане за исход или изложеност факторима ризика између оних који одустану и оних који остану у истраживању морају се испитати , ако је могуће, упоређивањем појединаца који остају у студији и оних који су изгубили због праћења или који су напустил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 одабрати субјекте који ће се пратити током целог трајања кохортне студ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пидемиолог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на јавног здравља, чија је улога да омогући разумевање дистрибуције, узрока и ефекта неке болести у заједницам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учава факторе и односе који одређују присуство, број, трендове и дистрибуцију болести у заједницама и код специфичних попул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Кохортне студ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733920" y="2895480"/>
          <a:ext cx="5111640" cy="3384720"/>
        </p:xfrm>
        <a:graphic>
          <a:graphicData uri="http://schemas.openxmlformats.org/drawingml/2006/table">
            <a:tbl>
              <a:tblPr/>
              <a:tblGrid>
                <a:gridCol w="1834920"/>
                <a:gridCol w="1573200"/>
                <a:gridCol w="1703520"/>
              </a:tblGrid>
              <a:tr h="19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а оболел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а необоле-л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лож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излож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спектив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троспективн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азе извођења кохортне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бор кохор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езбеђење података о изложе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ела на изложене и незложене аген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ћење учесталости оболе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тврђивање пропорције оболелих међу изложеним и неизложеним особ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13"/>
          <p:cNvSpPr/>
          <p:nvPr/>
        </p:nvSpPr>
        <p:spPr>
          <a:xfrm>
            <a:off x="4500720" y="285840"/>
            <a:ext cx="4222440" cy="1881000"/>
          </a:xfrm>
          <a:prstGeom prst="wedgeEllipseCallout">
            <a:avLst>
              <a:gd name="adj1" fmla="val -34995"/>
              <a:gd name="adj2" fmla="val 70861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Comic Sans MS"/>
              </a:rPr>
              <a:t>Vade mecum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Comic Sans MS"/>
              </a:rPr>
              <a:t>Una lectio non facit doctorem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хортне студије и фармаковигилан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активна фармаковигилан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маркетиншко праћење леков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F4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еном епидемиолошких метода утврђује се учесталост нежељених дејстава, пореди се безбедност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утинска фармаковигилан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онтано пријављивање нежељених дејстава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ткривање СИГНАЛ-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оактивна фармаковигиланца и безбедност биолошки сличних лек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зајн праћења - систематична евиденција циљаних података кроз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ултицентричн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хортн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интервенцијско 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пективно праћењ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Биотехнологија - дефини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иотехнологија означава сваку технолошку примену која користи биолошке системе, живе организме или њихове деривате да би начинила или модификовала производе или процесе за специфичну приме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Биоеквиваленц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ва фармацеутска производа се сматрају биоеквивалентним, ако поред истих фармацеутских одлика показују и исти степен биолошке расположивости, т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да после примене исте дозе имају приближно исту брзину ослобађања и степен апсорпције. У унакрсном испитивању на две мање групе испитаника, обично добровољаца, пореде с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ксимална постигнута концетрација у плазм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Cmax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еме у коме се постиже максимална концетрац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Tmax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упно апсорбована количина коју показују површина испод криве концетрације у времену (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AUC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, Area Under Concentration Curv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Биофармацеутски лек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 врло сложени хемијски молекули створени новим технологијама. Мале разлике у производном процесу могу утицати на њихове физичко-хемијске особине, као што ј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ватерна структура пепти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лика у гликолизацији гликопротеина и другим параметри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Биосимилари”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лике у производном процесу биотехнолошких лекова и лекова мале молекулске мас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уни одговор на примену биосимила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актори који утичу на имугенос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цифичности издавања дозволе за стављање у промет и примене биосимила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сновне смернице за регистрацију биосимила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и принципи легислати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ферентни ле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маркетиншка фармаковигиланц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путство за процену биотехнолошких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дентификације и карактеристике риз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ћења и процене риз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нимизирање риз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уникација у вези спречавања риз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лан регулисања ризика </a:t>
            </a:r>
            <a:br>
              <a:rPr sz="4000"/>
            </a:br>
            <a:r>
              <a:rPr b="0" i="1" lang="sr-Latn-CS" sz="4000" spc="-1" strike="noStrike">
                <a:solidFill>
                  <a:srgbClr val="000000"/>
                </a:solidFill>
                <a:latin typeface="Calibri"/>
              </a:rPr>
              <a:t>(Risk Management Pla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ланирање фармаковигиланц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цификација безбед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ан спровођења фармаковигиланц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гулисање спречавања риз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цена потреба за мерама спречавања ризи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ан минимизирања ризи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римери биофармацеутских произв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поет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сул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терферон алф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терферон б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ормон ра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оликуло-стимулирајући хормо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13"/>
          <p:cNvSpPr/>
          <p:nvPr/>
        </p:nvSpPr>
        <p:spPr>
          <a:xfrm>
            <a:off x="4500720" y="285840"/>
            <a:ext cx="4222440" cy="1881000"/>
          </a:xfrm>
          <a:prstGeom prst="wedgeEllipseCallout">
            <a:avLst>
              <a:gd name="adj1" fmla="val -34995"/>
              <a:gd name="adj2" fmla="val 70861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Пођи самном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Једно читање не чини учитеља</a:t>
            </a:r>
            <a:r>
              <a:rPr b="0" i="1" lang="sr-Latn-CS" sz="1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хортна студија - упоредила 90 000 пацијената који су били изложени ко-амоксиклаву са 360 000 пацијената који су били изложени амоксицил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удија је утврдила да је код корисника ко-амоксиклава шест пута већа вероватноћа да ће доживети акутну токсичност на јет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2286000" y="61272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НИВЕРЗИТЕТ У БЕОГРАДУ МЕДИЦИНСКИ ФАКУЛТ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Јасна М. Гачић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СПИТИВАЊЕ ПОВЕЗАНОСТИ МЕТАБОЛИЧКОГ СИНДРОМА СА КОЛОРЕКТАЛНИМ КАРЦИНОМ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кторска дисертациј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еоград 201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914400" y="68580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ИВАЊЕ ПОВЕЗАНОСТИ МЕТАБОЛИЧКОГ СИНДРОМА СА КОЛОРЕКТАЛНИМ КАРЦИНОМ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зим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вод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Метаболички синдром (МС) и слични метаболички поремећаји приказани су као фактор ризика за настанак колоректалног карцинома (КРК). Циљ ове студије био је да се истражи потенцијална улога МС у патогенези КРК. Такође, упоређивани су и нивои серумских инфламаторних и туморских маркера, као и вредности биохемијских параметара са присуством МС код пацијената са КР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14400" y="685800"/>
            <a:ext cx="7315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ИВАЊЕ ПОВЕЗАНОСТИ МЕТАБОЛИЧКОГ СИНДРОМА СА КОЛОРЕКТАЛНИМ КАРЦИНОМ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зим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тоде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Ретроспективна кохортна студија обухватила је 194 болесника са дијагностикованим КРК, који су подељени у две група на основу присуства МС. Подаци су прикупљани из историја болести као и на основу мерења болесника (телесна тежина, висина, обим струка), на одељењу Опште хирургије Клиничко болничког центра „Бежанијска коса“ у Београду. Испитивани су биохемијски параметри, као и нивои ЦЕА, ЦА 19-9, АФП и ЦРП који су упоређивани са присуством МС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533520" y="533520"/>
            <a:ext cx="8229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ИВАЊЕ ПОВЕЗАНОСТИ МЕТАБОЛИЧКОГ СИНДРОМА СА КОЛОРЕКТАЛНИМ КАРЦИНОМ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зим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езултати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Вредности индекса телесне масе, обима струка, систолног притиска, глукозе и триглицерида били су статистички значајно повишени код пацијената са КРК ког којих је дијагностикован МС, док су вредности ХДЛ-холестерола били значајно снижени. Број компоненти метаболичког синдрома био је значајно мањи 3 месеца након хируршке интервенције. Вредности аланинин аминотрансферазе, аспартат аминотрансферазе, алкалне фосфатазе, директног и укупног билирубина, укупних протеина, урее и креатинина нису се значајно разликовале међу испитиваним групама. Уочено је значајно смањење вредности ЦРП међу испитиваним групама три месеца након хируршке интервенције. Вредности АФП и ЦЕА биле су повишене и знад граничних вредности међу пацијентима са метаболичким синдромом, али уочене разлике нису биле статистички значајне. Вредност ЦА 19-9 биле су статистички значајно веће у групи са метаболичким синдромом и пре и 3 месеца постопеативно, али вредности испитиваног маркера нису прелазиле граничне вреднос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14400" y="685800"/>
            <a:ext cx="7315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ИВАЊЕ ПОВЕЗАНОСТИ МЕТАБОЛИЧКОГ СИНДРОМА СА КОЛОРЕКТАЛНИМ КАРЦИНОМ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зим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кључак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Резултати ове студије указују на могућу повезаност између присуства МС и повећаног ризика за настанак КРК. Потребно је спровести велике проспективне студије д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и се испитала потецијална улога серумских маркера у скринингу КРК код пацијената код којих је дијагностикован МС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914400" y="685800"/>
            <a:ext cx="731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ИВАЊЕ ПОВЕЗАНОСТИ МЕТАБОЛИЧКОГ СИНДРОМА СА КОЛОРЕКТАЛНИМ КАРЦИНОМ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иљеви истраживања су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ат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актор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С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оби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рука,   хипертензија,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ипергликемија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ипертриглицеридемија и смањен вредности ХДЛ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олестерола) је најчешци код КР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ати да ли постоје специфиност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абораторијских анализа (крвна слика, биохемија) код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олесника који имају МС и КР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нализирати утицај интерреакције стадијума КРК и МС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неспецифицне запаљенске факторе и тумор маркере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 КР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9047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телигенција без амбиције је попут птице без крила.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Salvador Domingo Felipe Jacinto Dal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оја амбиција је да у десет реченица кажем шта други кажу у целој књизи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riedrich Wilhelm Nietzsc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, истина је да ја увек предузмем више него што могу да остварим. – Никола Тес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Медицина заснована на чињеница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авесна, експлицитна и правична примена најпознатијих савремених чињеница при доношењу медицинских одлука које се тичу појединачног пацијента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ack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ласификација препору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иво дока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кази из мета анализа мултицентричних, добро дизајнираних контролисаних студија. Рандомизиране студије са ниско лажно позитивним и ниским лажно негативним грешкама (висока поузданост студиј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кази из најмање једне добро дизајниране експерименталне студије. Рандомизиране студије са високо лажно позитивним и/или негативним грешкама (ниска поузданост студије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нсензус експер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тепен препору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стоје докази да је одређена процедура или терапија употребљива или корис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тања где су мишљења и докази супроставље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a. Процена ставова/доказа је у корист употребљив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b. Применљивост је мање документована на основу док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тања за која постоје докази или генерално слагање да процедура није применљива и у неким случајевима може бити штет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иомедицинска истражив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7160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врха истраживањ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пис стања у популациј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везаност између ризичног чиниоца и боле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ређење делотворности два третмана (лек, медицинско средство, оперативни захва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дела истраживања прем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род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еориј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мпиријс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Циљ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мењена (апликативна) истражи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азична (темељна, фундаментална) истражи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ункц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ксплорати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смерена проверавању хипотез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дела истраживања према начину расподеле испита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налитичка истраживања (студије)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alytic stud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пажајна (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bservational studies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опсервациона истраживања, “неексперименталне студије”) истражи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страживање случај-контрола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ase control 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dy): ретроспектив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хортно истраживање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hort stud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: проспективно, ретроспектив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тудије пресека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ross-sectional stud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: пресечено истражива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нтервентна (експериментална) истраживања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xperimental stud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страживања без контролне групе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controlled tria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страживања са контролном групом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ntrolled tria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ерандомизирана клиничка истраживања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n-randomized tria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ндомизирана клиничка истраживања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andomized tria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 algn="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 algn="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Joseph Eisenberg, Ph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пажајна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bservational stud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опсервациона истраживањ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 истраживања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терминолошке недоумиц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30178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Истраживање случај-контрол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ase control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dy): ретроспектив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страживање парова, истраживање случај-парњак, студија анамнезе случајева – ретроспективна студија, анамнестичке студ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Кохортно истраживањ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hort stud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: проспективно, ретроспектив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удије праћења, лонгитудиналне студије, студије инциден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тудије пресек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ross-sectional stud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есечено истраживање, фотографско истраживање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napshot 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d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arko</cp:lastModifiedBy>
  <dcterms:modified xsi:type="dcterms:W3CDTF">2021-08-24T06:39:15Z</dcterms:modified>
  <cp:revision>36</cp:revision>
  <dc:subject/>
  <dc:title>Развој фармацеутске делатности</dc:title>
</cp:coreProperties>
</file>